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FEA-A90C-4E45-A314-D365C34D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A5B-CFA0-4521-9388-87EB5B04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315-1924-4666-8D3C-D253156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72B-93B5-4116-A897-078BACAE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7C1B-33B7-404F-8959-D0B24A8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C7D-B328-4B49-AE05-4D7AEC7F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7A54-292A-40FA-B8A6-B0AB3569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390-B038-46D8-BE55-D020834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1D5A-DB35-4EB0-BA3E-41D6399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B3E-F803-4C93-A555-B436BEA4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DCD7-6778-4B3D-AEB4-6E2862E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834-180C-4F40-B887-EA0447B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6DA-D50F-4B56-899B-43A1204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D3C-6788-4AB2-947E-B0EDBE5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7A8-773B-480B-A642-F5010EB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C94-D952-43D2-B2D3-F85594B0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9AE-8200-4E00-8B0E-9A801F11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DB2-A256-43B2-A5CE-E67DEA9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0DD-5868-40E9-BD92-C6138BB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2A5-0AA7-4C85-B308-ACBC010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C15-702E-4F9A-8F8E-0A73680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7B0-89D5-40CE-BCDC-3560007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DE8-22BD-46DD-B1ED-AC00499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2A6-B240-4BC9-87F6-DD8F51D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DF5E-50AC-42A6-B9E1-9195C5E25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020-EDB1-4712-906A-4747BEF70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ратовский государствен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дицинский университет имени В. И. Разумовского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тентный отде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34920" y="6021000"/>
            <a:ext cx="6032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ра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35280" y="2924280"/>
            <a:ext cx="61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щита авторских прав на Базы дан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рограммы для ЭВ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rcRect l="15642" t="32835" r="-326" b="19830"/>
          <a:stretch/>
        </p:blipFill>
        <p:spPr>
          <a:xfrm>
            <a:off x="299880" y="1341360"/>
            <a:ext cx="13552560" cy="4734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1042920" y="2840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рагмент базы данны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Биомеханические параметры артерий головного мозга взрослых люде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468360" y="328680"/>
            <a:ext cx="8207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ЕФЕРА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Авторы: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Фомкина Ольга Александровна, Николенко Владимир Николаевич, Иванов Дмитрий Валерьевич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Правообладатель: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Фомкина Ольга Александро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База данных: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иомеханические параметры артерий головного мозга взрослых люде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Аннотация: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аза данных (БД) содержит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иомеханические параметры артерий головного мозга (базилярная, правая и левая передние мозговые, правая и левая задние мозговые, левая и правая задние мозговые, левая и правая позвоночные, правая и левая средние мозговые)  взрослых:  общая прочность, предел прочности, абсолютное и относительное удлинение, начальная длина образца, модуль Юнга и толщина стенки артерий головного мозга. Данные получены в результате изъятия образцов сосудов при аутопсии взрослых людей в возрасте от 21 до 84 лет, причина смерти которых не была связана с острой или хронической цереброваскулярной патологией. Биомеханические параметры определены в эксперименте при продольной одноосной тракции образцов артерий на разрывной машине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ra Test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28005. БД предназначена для использования в научных исследованиях для изучения половых, билатеральных и возрастных особенностей церебральных артерий. БД обеспечивает возможность проводить поиск любой представленной в ней информации; предоставлять данные в табличной и графической формах; рассчитывать индексы; производить статистическую обработку фрагментов выборки базы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Тип ЭВМ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IBM PC-совмест. П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УБД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soft Exc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С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ndows X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Объем базы данных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75 Кб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ой для ЭВ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является представленная в объективной форме совокупность данных и команд, предназначенных для функционирования ЭВМ и других компьютерных устройств в целях получения определенного результата, включая подготовительные материалы, полученные в ходе разработки программы для ЭВМ, и порождаемые ею аудиовизуальные отображения. (ст.1261 ГК РФ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050920" y="3014280"/>
            <a:ext cx="4608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ы для ЭВМ создаются при помощи языков программирования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B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tlab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xPro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Base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ppe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sc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pl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av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lph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 многие други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332" descr="3343002_6"/>
          <p:cNvPicPr/>
          <p:nvPr/>
        </p:nvPicPr>
        <p:blipFill>
          <a:blip r:embed="rId1"/>
          <a:stretch/>
        </p:blipFill>
        <p:spPr>
          <a:xfrm>
            <a:off x="4572000" y="3540240"/>
            <a:ext cx="31478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77025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ЕФЕРА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ы: Хмара Артем Дмитриевич, Хмара Татьяна Григорье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авообладатель: Хмара Артем Дмитриевич, Хмара Татьяна Григорье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грамма для ЭВМ: Выбор лечебной тактики у больных с сочетанной травмой органов грудной клетки и сегментов конечносте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ннотация: Программа предназначена для автоматического определения балла тяжести состояния пациентов с сочетанными повреждениями груди и сегментов конечностей, как при поступлении, так и в процессе лечения, и выбора правильной лечебной тактики в каждом конкретном случае. Содержит несколько форм ,позволяющих вводить, добавлять и сохранять, изменять и удалять данные по пациенту, а так же данные по исследованию; позволяет вводить данные по первому и второму исследованиям в рамках одной истории болезни, а  также производить расчет баллов тяжести состояния пациента по предложенной формуле; программа позволяет составить отчет по исследованиям. Может быть использована в клинической практике в травматологическом и торакальном отделениях специализированных и многопрофильных больниц для выбора лечебной тактики,  определения последовательности и сроков оперативного лечения на грудной клетке и сегментах конечност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ип ЭВМ: IBM PC-совмест. ПК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Язык программирования: Visual Basic, Acces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С: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ndows XP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/7/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ъем программы для ЭВМ:  369 Кбай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17678" t="12858" r="7143" b="0"/>
          <a:stretch/>
        </p:blipFill>
        <p:spPr>
          <a:xfrm>
            <a:off x="-684360" y="0"/>
            <a:ext cx="12030120" cy="87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940360" cy="40323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" descr=""/>
          <p:cNvPicPr/>
          <p:nvPr/>
        </p:nvPicPr>
        <p:blipFill>
          <a:blip r:embed="rId2"/>
          <a:stretch/>
        </p:blipFill>
        <p:spPr>
          <a:xfrm>
            <a:off x="2700360" y="2279520"/>
            <a:ext cx="594036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9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3408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"/>
          <p:cNvSpPr/>
          <p:nvPr/>
        </p:nvSpPr>
        <p:spPr>
          <a:xfrm>
            <a:off x="826920" y="4292640"/>
            <a:ext cx="79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а «Исследование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анная форма позволяет вводить данные по первому и второму исследованию в рамках одной истории болезни. А также производить расчёт баллов тяжести состояния пациента (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) по формул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 = 9,067 * x1 + 4,837 * x2 + 1,97 * x3 – 1,08 * x4. – 2,97 * x5 – 83,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C:\Users\skachkova.ay\Downloads\Document_54.tif"/>
          <p:cNvPicPr/>
          <p:nvPr/>
        </p:nvPicPr>
        <p:blipFill>
          <a:blip r:embed="rId1"/>
          <a:srcRect l="9373" t="3342" r="0" b="1994"/>
          <a:stretch/>
        </p:blipFill>
        <p:spPr>
          <a:xfrm>
            <a:off x="2630520" y="336600"/>
            <a:ext cx="4213080" cy="62136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тактная информац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тентный отдел СГМУ, корпус № 6,  к.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.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960-340-29-0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6-98-32 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l: viktorsmirnov7-4@yandex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627280" y="551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1258920" y="549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1"/>
          <p:cNvSpPr/>
          <p:nvPr/>
        </p:nvSpPr>
        <p:spPr>
          <a:xfrm rot="18562800">
            <a:off x="5365080" y="1124280"/>
            <a:ext cx="215640" cy="792360"/>
          </a:xfrm>
          <a:prstGeom prst="downArrow">
            <a:avLst>
              <a:gd name="adj1" fmla="val 50000"/>
              <a:gd name="adj2" fmla="val 918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2"/>
          <p:cNvSpPr/>
          <p:nvPr/>
        </p:nvSpPr>
        <p:spPr>
          <a:xfrm rot="2362800">
            <a:off x="2700000" y="119664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971640" y="213372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изводные произ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произведения, представляющие собой переработку другого произведени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00720" y="2205000"/>
            <a:ext cx="4032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авные произвед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произведения, представляющие собой результат творческого труд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подбору или расположению материал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15" descr="co"/>
          <p:cNvPicPr/>
          <p:nvPr/>
        </p:nvPicPr>
        <p:blipFill>
          <a:blip r:embed="rId1"/>
          <a:stretch/>
        </p:blipFill>
        <p:spPr>
          <a:xfrm>
            <a:off x="3586320" y="1185840"/>
            <a:ext cx="888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зой данных (БД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является представленная в объективной форме совокупность самостоятельных материалов (статей, расчетов, нормативных актов, судебных решений и иных подобных материалов), систематизированных таким образом, чтобы эти материалы могли быть найдены и обработаны с помощью электронной вычислительной машины (ЭВМ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ст.1260 ГК РФ, п.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у базы данных принадлежа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ские права на осуществленные и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или расположение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5769-2_1"/>
          <p:cNvPicPr/>
          <p:nvPr/>
        </p:nvPicPr>
        <p:blipFill>
          <a:blip r:embed="rId1"/>
          <a:stretch/>
        </p:blipFill>
        <p:spPr>
          <a:xfrm>
            <a:off x="0" y="4516560"/>
            <a:ext cx="2340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горитм действий для регистрации авторского права на Б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ть базу данных в СУБД (например,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S SQ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ACL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9 2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S Acces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dox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.0 и др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формить необходимый комплект докуме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мплектность заявки на регистрацию Б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Материал, идентифицирующий базу дан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Рефе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Заявление в ФИП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) Квитанция об оплате государственной пошли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риал, идентифицирующ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зу дан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печатка базы данных. Объем не более 50 листо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6920" y="3068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611280" y="1700280"/>
            <a:ext cx="777708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ообладатель:  Фомкин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иомеханические парамет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ртерий головного мозга взрослых люд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стов 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мкина Ольга Александровн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коленко Владимир Николаевич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ванов Дмитрий Валерьевич.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Сара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13  г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1258920" y="692280"/>
            <a:ext cx="6985080" cy="561816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 Рефера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23640" y="1052640"/>
            <a:ext cx="561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ЕФЕРА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ы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авообладатель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аза данных: Название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ннотация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за данных предназначена для  ... и может применяться в .....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за данных  обеспечивает ………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....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...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ип ЭВМ: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БД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С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ъем базы данных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4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 Заявление на государственную регистрацию в Роспатент (ФИП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15863" t="16763" r="50760" b="6227"/>
          <a:stretch/>
        </p:blipFill>
        <p:spPr>
          <a:xfrm>
            <a:off x="-36360" y="811080"/>
            <a:ext cx="4162320" cy="600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rcRect l="15123" t="15781" r="52603" b="8009"/>
          <a:stretch/>
        </p:blipFill>
        <p:spPr>
          <a:xfrm>
            <a:off x="4284720" y="973080"/>
            <a:ext cx="417492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86240" y="91440"/>
            <a:ext cx="68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сударственная пошли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государственную регистрац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333.3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К РФ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.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69"/>
          <p:cNvSpPr/>
          <p:nvPr/>
        </p:nvSpPr>
        <p:spPr>
          <a:xfrm>
            <a:off x="5045040" y="658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26920" y="765000"/>
          <a:ext cx="7445520" cy="5456520"/>
        </p:xfrm>
        <a:graphic>
          <a:graphicData uri="http://schemas.openxmlformats.org/drawingml/2006/table">
            <a:tbl>
              <a:tblPr/>
              <a:tblGrid>
                <a:gridCol w="4457880"/>
                <a:gridCol w="216000"/>
                <a:gridCol w="1289880"/>
                <a:gridCol w="181800"/>
                <a:gridCol w="1299960"/>
              </a:tblGrid>
              <a:tr h="7311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) за государственную регистрацию ПрЭВМ, БД соответственно в Реестре ПрЭВМ, Реестре БД, включая выдачу заявителю свидетельства о государственной регистрации ПрЭВМ, БД, а также  публикацию сведений о зарегистрированной ПрЭВМ, БД в официальном бюллет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физического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6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7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ые действия, связанные с государственной регистрацией ПрЭВМ, Б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. 333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физического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) за внесение изменений в документы и материалы к заявке на регистрацию ПрЭВМ, БД до публикации в официальном бюллете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) за внесение по инициативе заявителя изменений в депонированные документы и материалы и выдачу заявителю нового свидетельства о государственной регистрации ПрЭВМ, БД до публикации в официальном бюллетене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4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) за выдачу дубликата свидетельства о государственной регистрации ПрЭВМ, БД ст. 333.30 п. 1,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2:49:29Z</dcterms:created>
  <dc:creator>User</dc:creator>
  <dc:description/>
  <dc:language>en-US</dc:language>
  <cp:lastModifiedBy>Лидия</cp:lastModifiedBy>
  <dcterms:modified xsi:type="dcterms:W3CDTF">2014-11-07T06:28:58Z</dcterms:modified>
  <cp:revision>58</cp:revision>
  <dc:subject/>
  <dc:title>Слайд 1</dc:title>
</cp:coreProperties>
</file>