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ACD-0FA8-436D-AD56-998B7D8A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F66-00C0-4D21-91A8-B192744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0CC-9BE0-411B-8C84-85FD89DD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52D-5A06-4588-9311-462558B7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7244-6CEC-483C-A03C-0628BE12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ECDA-7843-4FDE-AFF3-4E2223CE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8481-8308-4A9C-85B0-B9035D38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0C9C-F9E8-461F-BA8F-E5F1868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CD70-42DA-4D97-923A-C4EABBB9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DD05-8842-4B5F-A596-87BEE6A8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C6EA-45C7-42B7-A719-C8FE02AC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395-4A3C-4596-9782-C13312F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821-4CD5-44AB-A546-2600CBE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126A-B2FB-4E50-A304-C9A2018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DAF9-1312-4A64-9A16-9D98EE4F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B26B-D015-448A-ABCD-FDF34D35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E2F2-DD6B-4079-A45F-FAFD0AA1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29D-A5CF-4BC2-8D7F-D86B6DFF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008-0DA3-4494-81D1-CE1E21C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774-BEF6-492A-848C-F6D5BAD8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7AB-69FB-4A76-826F-ED025EE9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A36-5846-4DB0-B543-CB7CD983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2CF-FAF9-4081-BDC5-24244C4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919-D8FE-4CB8-854A-8AD1E6F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5AE6-D087-40F0-9DBA-36FA2209E0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A13C-14C5-4AD5-B49D-64148D7A14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oisknews.ru/" TargetMode="External"/><Relationship Id="rId2" Type="http://schemas.openxmlformats.org/officeDocument/2006/relationships/hyperlink" Target="http://www.poisknews.ru/" TargetMode="External"/><Relationship Id="rId3" Type="http://schemas.openxmlformats.org/officeDocument/2006/relationships/hyperlink" Target="http://www.poisknews.ru/" TargetMode="External"/><Relationship Id="rId4" Type="http://schemas.openxmlformats.org/officeDocument/2006/relationships/hyperlink" Target="http://www.poisknews.ru/" TargetMode="External"/><Relationship Id="rId5" Type="http://schemas.openxmlformats.org/officeDocument/2006/relationships/hyperlink" Target="http://www.rsci.ru/" TargetMode="External"/><Relationship Id="rId6" Type="http://schemas.openxmlformats.org/officeDocument/2006/relationships/hyperlink" Target="http://www.rsci.ru/" TargetMode="External"/><Relationship Id="rId7" Type="http://schemas.openxmlformats.org/officeDocument/2006/relationships/hyperlink" Target="http://www.rsci.ru/" TargetMode="External"/><Relationship Id="rId8" Type="http://schemas.openxmlformats.org/officeDocument/2006/relationships/hyperlink" Target="http://www.rsci.ru/" TargetMode="External"/><Relationship Id="rId9" Type="http://schemas.openxmlformats.org/officeDocument/2006/relationships/hyperlink" Target="http://www.science-community.org/ru/" TargetMode="External"/><Relationship Id="rId10" Type="http://schemas.openxmlformats.org/officeDocument/2006/relationships/hyperlink" Target="http://www.science-community.org/ru/" TargetMode="External"/><Relationship Id="rId11" Type="http://schemas.openxmlformats.org/officeDocument/2006/relationships/hyperlink" Target="http://www.science-community.org/ru/" TargetMode="External"/><Relationship Id="rId12" Type="http://schemas.openxmlformats.org/officeDocument/2006/relationships/hyperlink" Target="http://www.science-community.org/ru/" TargetMode="External"/><Relationship Id="rId13" Type="http://schemas.openxmlformats.org/officeDocument/2006/relationships/hyperlink" Target="http://www.science-community.org/ru/" TargetMode="External"/><Relationship Id="rId14" Type="http://schemas.openxmlformats.org/officeDocument/2006/relationships/hyperlink" Target="http://www.science-community.org/ru/" TargetMode="External"/><Relationship Id="rId15" Type="http://schemas.openxmlformats.org/officeDocument/2006/relationships/hyperlink" Target="http://vsekonkursy.ru/" TargetMode="External"/><Relationship Id="rId16" Type="http://schemas.openxmlformats.org/officeDocument/2006/relationships/hyperlink" Target="http://sgmu.ru/sci/grants/sng.html" TargetMode="External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сновные показатели научно-исследовательской деятельности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СГМ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ели НИР СГМУ по отношению к показателям медицинских вуз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484280"/>
          <a:ext cx="8535960" cy="4795920"/>
        </p:xfrm>
        <a:graphic>
          <a:graphicData uri="http://schemas.openxmlformats.org/drawingml/2006/table">
            <a:tbl>
              <a:tblPr/>
              <a:tblGrid>
                <a:gridCol w="5256000"/>
                <a:gridCol w="1224000"/>
                <a:gridCol w="1028880"/>
                <a:gridCol w="1027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аратовский Г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лгоградский ГМ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амарский ГМ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Web of Science, 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,0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,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copu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4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в РИНЦ,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8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0,6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,0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полученных грантов за отчетный год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,5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59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66"/>
                </a:solidFill>
                <a:latin typeface="Times New Roman"/>
              </a:rPr>
              <a:t>АНАЛИЗ ПУБЛИКАЦИОННОЙ АКТИВНОСТИ СГМУ ПО ДАННЫМ</a:t>
            </a:r>
            <a:r>
              <a:rPr b="1" lang="en-US" sz="2700" spc="-1" strike="noStrike">
                <a:solidFill>
                  <a:srgbClr val="006666"/>
                </a:solidFill>
                <a:latin typeface="Times New Roman"/>
              </a:rPr>
              <a:t> ELIBRARY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773360"/>
          <a:ext cx="8537400" cy="4235400"/>
        </p:xfrm>
        <a:graphic>
          <a:graphicData uri="http://schemas.openxmlformats.org/drawingml/2006/table">
            <a:tbl>
              <a:tblPr/>
              <a:tblGrid>
                <a:gridCol w="4881240"/>
                <a:gridCol w="3656160"/>
              </a:tblGrid>
              <a:tr h="50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бщие показатели (дата обновления 13.08.2014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бщее число публикаций организации в РИН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 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уммарное число цитирований публикаций организаци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 39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авторо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-</a:t>
                      </a: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индекс (индекс Хирш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РАВНЕНИЕ ПОКАЗАТЕЛЕЙ ОРГАНИЗАЦИ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-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ДЕКС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52480"/>
            <a:ext cx="8209080" cy="311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8137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Целевые показатели деятельности СГМУ за 1-3 кв. 2014 год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836720"/>
          <a:ext cx="8497800" cy="5021280"/>
        </p:xfrm>
        <a:graphic>
          <a:graphicData uri="http://schemas.openxmlformats.org/drawingml/2006/table">
            <a:tbl>
              <a:tblPr/>
              <a:tblGrid>
                <a:gridCol w="720720"/>
                <a:gridCol w="3672000"/>
                <a:gridCol w="1368360"/>
                <a:gridCol w="1368360"/>
                <a:gridCol w="1368360"/>
              </a:tblGrid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№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/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оказател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кв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кв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кв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статей, опубликованных в рейтинговых журналах с импакт-фактором не ниже 0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бъем НИОКР в расчете на 1 НПР, тыс.руб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1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ланируемые гран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773360"/>
          <a:ext cx="8229600" cy="36367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уководитель грант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олучатель-исполнитель в СГМ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частие МС*, студент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рганизация-соисполнител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Грантодержатели (СГМУ, организация-соисполнитель, личный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рганизация-грантодатель, стран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Вид гран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азета «Поиск» </a:t>
            </a:r>
            <a:r>
              <a:rPr b="1" i="1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</a:t>
            </a:r>
            <a:r>
              <a:rPr b="1" i="1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://</a:t>
            </a:r>
            <a:r>
              <a:rPr b="1" i="1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poisknews.ru</a:t>
            </a:r>
            <a:r>
              <a:rPr b="1" i="1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нформационный интернет-канал «Наука и инновации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www.rsci.ru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циальная научная се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www.science-community.org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3"/>
              </a:rPr>
              <a:t>ru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талог грантов, конкурсов и стипендиальных программ </a:t>
            </a:r>
            <a:r>
              <a:rPr b="1" i="1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5"/>
              </a:rPr>
              <a:t>http://vsekonkursy.ru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айт СГМУ – Научно-исследовательская работа – Гранты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Verdana"/>
                <a:hlinkClick r:id="rId16"/>
              </a:rPr>
              <a:t>http://sgmu.ru/sci/grants/sng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Заголовок 3" descr=""/>
          <p:cNvPicPr/>
          <p:nvPr/>
        </p:nvPicPr>
        <p:blipFill>
          <a:blip r:embed="rId17"/>
          <a:stretch/>
        </p:blipFill>
        <p:spPr>
          <a:xfrm>
            <a:off x="2752560" y="314280"/>
            <a:ext cx="4672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Пороговые значения показателей для оценки эффективности вузо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4200" y="1244520"/>
          <a:ext cx="8929800" cy="5391360"/>
        </p:xfrm>
        <a:graphic>
          <a:graphicData uri="http://schemas.openxmlformats.org/drawingml/2006/table">
            <a:tbl>
              <a:tblPr/>
              <a:tblGrid>
                <a:gridCol w="1656000"/>
                <a:gridCol w="1081080"/>
                <a:gridCol w="1224000"/>
                <a:gridCol w="863280"/>
                <a:gridCol w="1224000"/>
                <a:gridCol w="936720"/>
                <a:gridCol w="792360"/>
                <a:gridCol w="115236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организац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разовате-льная дея-ть (балл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учно-исследова-тельская дея-ть (тыс.ру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ждуна-родная деятель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нансово-экономическая дея-ть (тыс. руб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ра-структу-ра (м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рудо-устройство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полни-тельные показ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имеющих специфики 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,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27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,7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енной и силовой направлен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дицинской направл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льскохозяйственной направл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ворческой направл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ортивной направл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зиции СГМУ по основным показателям Мониторинга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013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ода в сравнении с пороговыми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начениями показателей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569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Позиции СГМУ по основным показателям Мониторинга в сравнении с пороговыми</a:t>
            </a:r>
            <a:br>
              <a:rPr sz="2300"/>
            </a:b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значениями показателей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1628640"/>
          <a:ext cx="8675640" cy="4867560"/>
        </p:xfrm>
        <a:graphic>
          <a:graphicData uri="http://schemas.openxmlformats.org/drawingml/2006/table">
            <a:tbl>
              <a:tblPr/>
              <a:tblGrid>
                <a:gridCol w="718920"/>
                <a:gridCol w="3816360"/>
                <a:gridCol w="2139840"/>
                <a:gridCol w="200052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№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аименование показател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Значение показател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ороговое значе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бразовательная дея-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3,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аучно-исследовательская дея-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1,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Международная дея-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5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инансово-экономическая дея-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38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27,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Инфраструкту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рудоустройств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9,87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8,7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ополнительные показате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3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Показатели научно-исследовательской деятельности в соответствии с «Дорожной картой</a:t>
            </a:r>
            <a:r>
              <a:rPr b="1" lang="en-US" sz="2300" spc="-1" strike="noStrike">
                <a:solidFill>
                  <a:srgbClr val="006666"/>
                </a:solidFill>
                <a:latin typeface="Times New Roman"/>
              </a:rPr>
              <a:t>»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989000"/>
          <a:ext cx="8424720" cy="4318200"/>
        </p:xfrm>
        <a:graphic>
          <a:graphicData uri="http://schemas.openxmlformats.org/drawingml/2006/table">
            <a:tbl>
              <a:tblPr/>
              <a:tblGrid>
                <a:gridCol w="563400"/>
                <a:gridCol w="2154240"/>
                <a:gridCol w="1243080"/>
                <a:gridCol w="720720"/>
                <a:gridCol w="719280"/>
                <a:gridCol w="720720"/>
                <a:gridCol w="785880"/>
                <a:gridCol w="723960"/>
                <a:gridCol w="793440"/>
              </a:tblGrid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диница измер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м  научно-исследовательской и опытно-конструкторской работы (далее – НИОКР, в расчете на 1 научно-педагогического работника (далее – НПР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ыс.ру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казатели научной деятельности СГМУ за 2013 год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8000" y="1557360"/>
          <a:ext cx="8856720" cy="4887720"/>
        </p:xfrm>
        <a:graphic>
          <a:graphicData uri="http://schemas.openxmlformats.org/drawingml/2006/table">
            <a:tbl>
              <a:tblPr/>
              <a:tblGrid>
                <a:gridCol w="734364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убликационная активность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еди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Web of Science, в расчете на 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copu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в РИНЦ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8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полученных грантов за отчетный год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ели НИР СГМУ по отношению к показателям вузов регио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8827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ели НИР СГМУ по отношению к показателям вузов регио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147680"/>
          <a:ext cx="8497800" cy="5521320"/>
        </p:xfrm>
        <a:graphic>
          <a:graphicData uri="http://schemas.openxmlformats.org/drawingml/2006/table">
            <a:tbl>
              <a:tblPr/>
              <a:tblGrid>
                <a:gridCol w="4968720"/>
                <a:gridCol w="1297080"/>
                <a:gridCol w="1079640"/>
                <a:gridCol w="115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Г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Г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Web of Science, 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copu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статей, изданных за отчетный год, в научной периодике, индексируемой в системе цитирования в РИНЦ,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8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9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0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полученных грантов за отчетный год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расчете на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Н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ели НИР СГМУ по отношению к показателям медицинских вуз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8:01:05Z</dcterms:created>
  <dc:creator>admin</dc:creator>
  <dc:description/>
  <dc:language>en-US</dc:language>
  <cp:lastModifiedBy>admin</cp:lastModifiedBy>
  <dcterms:modified xsi:type="dcterms:W3CDTF">2014-11-06T13:26:02Z</dcterms:modified>
  <cp:revision>91</cp:revision>
  <dc:subject/>
  <dc:title>Основные показатели научно-исследовательской деятельности вуза в отчетно-планирующей документации кафедр</dc:title>
</cp:coreProperties>
</file>