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C68E-BB22-47D4-9330-98BE8442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529E-97B9-45CD-89FF-BC7D53A6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4113-160F-4583-A7E9-A786B9E4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C371-3863-4E12-8BAD-967D25530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0CBA-88A9-476D-BE06-F165041A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DE8C-42A3-453F-8474-E3743713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8BE2-6C4F-4093-B76D-FD158386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5A63-589C-4D09-98EF-CCEBD1BC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10FC-30D9-4B23-85A0-D3BDB388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0EF9-361C-4857-8DE9-FCD665F4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B6D0-0675-4936-8CC4-6F8FE950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E20E-EF16-4129-9352-C2425A9E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083B-4F0C-48C4-900D-5641743D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0482-C0A7-4EA5-AFC0-1A4DBA11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DE16-992D-4365-AAEA-6CB53F9B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5995-5517-4942-AEE3-AB8D347F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CD17-9C76-4EF4-B3CF-2431CB77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78C7-EF7C-457A-B897-8E8A607A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943F-38AF-49BA-8E35-A20AEAE9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A005-16A4-47EF-82E2-5E468613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9127-D995-42A3-B72F-B4FF32E5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82A0-364B-4030-BBBC-6E2480F9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98DA-A928-4133-A7FB-3FF96DD8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505F-6CF5-4A70-A5B4-AD045BCE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341B-3BEA-48FF-83BD-9EA4A15C7C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EB63-34AF-48DA-B065-519A6C7EA0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rosrid.ru/" TargetMode="External"/><Relationship Id="rId2" Type="http://schemas.openxmlformats.org/officeDocument/2006/relationships/hyperlink" Target="http://www.rosrid.ru/" TargetMode="External"/><Relationship Id="rId3" Type="http://schemas.openxmlformats.org/officeDocument/2006/relationships/hyperlink" Target="http://www.rosrid.ru/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rosrid.ru/" TargetMode="External"/><Relationship Id="rId2" Type="http://schemas.openxmlformats.org/officeDocument/2006/relationships/hyperlink" Target="http://www.rosrid.ru/" TargetMode="External"/><Relationship Id="rId3" Type="http://schemas.openxmlformats.org/officeDocument/2006/relationships/hyperlink" Target="http://www.rosrid.ru/" TargetMode="Externa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rosrid.ru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osrid.ru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rosrid.ru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osrid.ru/" TargetMode="External"/><Relationship Id="rId2" Type="http://schemas.openxmlformats.org/officeDocument/2006/relationships/hyperlink" Target="http://www.rosrid.ru/" TargetMode="External"/><Relationship Id="rId3" Type="http://schemas.openxmlformats.org/officeDocument/2006/relationships/hyperlink" Target="http://www.rosrid.ru/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280" y="1268280"/>
            <a:ext cx="8064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ПОРЯДОК РЕГИСТРАЦИИ научно-исследовательских и опытно-конструкторских работ</a:t>
            </a: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 (НИОКР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878120" y="5271840"/>
            <a:ext cx="570384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АРАТОВ 201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765000"/>
            <a:ext cx="84042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333399"/>
                </a:solidFill>
                <a:latin typeface="Tahoma"/>
              </a:rPr>
              <a:t>РЕГИСТРАЦИОННАЯ КАРТА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30480" y="2017800"/>
            <a:ext cx="7681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95440" y="476280"/>
            <a:ext cx="854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333399"/>
                </a:solidFill>
                <a:latin typeface="Tahoma"/>
              </a:rPr>
              <a:t>В ФНАУ ЦИТИС направляются: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2017440"/>
            <a:ext cx="85597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Tahoma"/>
              </a:rPr>
              <a:t>1 экземпляр</a:t>
            </a: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РК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заполнение и распечатывание производится в режиме онлайн с помощью программного комплекс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сопроводительное письмо к РК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 официальном бланке Исполнителя (с одним сопроводительным письмом могут направляться РК по нескольким работам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55828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Информационная карта реферативно-библиографических сведений (ИКРБС)</a:t>
            </a:r>
            <a:br>
              <a:rPr sz="2800"/>
            </a:b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www.rosrid.ru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24000" y="1600200"/>
            <a:ext cx="842472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41392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Информационная карта реферативно-библиографических сведений (ИКРБС)</a:t>
            </a:r>
            <a:br>
              <a:rPr sz="2800"/>
            </a:b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www.rosrid.ru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39640" y="1628640"/>
            <a:ext cx="840600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5440" y="404280"/>
            <a:ext cx="8548560" cy="9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333399"/>
                </a:solidFill>
                <a:latin typeface="Tahoma"/>
              </a:rPr>
              <a:t>В ФНАУ ЦИТИС направляются: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4920" y="2017440"/>
            <a:ext cx="85597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cc"/>
                </a:solidFill>
                <a:uFillTx/>
                <a:latin typeface="Tahoma"/>
              </a:rPr>
              <a:t>один экземпляр ИКРБС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заполнение и распечатывание ИКРБС производится в онлайн-режиме с помощью программного комплекса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cc"/>
                </a:solidFill>
                <a:uFillTx/>
                <a:latin typeface="Tahoma"/>
              </a:rPr>
              <a:t>один экземпляр отчета о НИОКР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cc"/>
                </a:solidFill>
                <a:uFillTx/>
                <a:latin typeface="Tahoma"/>
              </a:rPr>
              <a:t>сопроводительное письмо к ИКРБС и отчету о НИОКР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а официальном бланке Исполнителя (с одним сопроводительным письмом могут направляться ИКРБС и отчеты о НИОКР по нескольким работам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2724120"/>
            <a:ext cx="86756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Tahoma"/>
              </a:rPr>
              <a:t>БЛАГОДАРЮ ЗА ВНИМАНИЕ!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148000" y="4941720"/>
            <a:ext cx="3987720" cy="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8080" bIns="28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ahoma"/>
              </a:rPr>
              <a:t>Федеральное государственное автономное научное учреждение «Центр информационных технологий и систем органов исполнительной власти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772400" cy="3608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00000" y="4292640"/>
            <a:ext cx="777744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374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333399"/>
                </a:solidFill>
                <a:latin typeface="Tahoma"/>
              </a:rPr>
              <a:t>ПОРЯДОК РЕГИСТРАЦИИ НИОКР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1600200"/>
            <a:ext cx="82551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558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ahoma"/>
              </a:rPr>
              <a:t>Единая государственная информационная система учета результатов научно-исследовательских и опытно-конструкторских работ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1600200"/>
            <a:ext cx="849600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0920" y="609480"/>
            <a:ext cx="8281800" cy="8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99"/>
                </a:solidFill>
                <a:latin typeface="Tahoma"/>
              </a:rPr>
              <a:t>РЕГИСТРАЦИЯ НА САЙТЕ</a:t>
            </a:r>
            <a:r>
              <a:rPr b="1" i="1" lang="en-US" sz="3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rosrid.ru</a:t>
            </a:r>
            <a:r>
              <a:rPr b="0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 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4000" y="1600200"/>
            <a:ext cx="8496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83422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99"/>
                </a:solidFill>
                <a:latin typeface="Tahoma"/>
              </a:rPr>
              <a:t>РЕГИСТРАЦИЯ НА САЙТЕ</a:t>
            </a:r>
            <a:r>
              <a:rPr b="1" i="1" lang="en-US" sz="3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rosrid.ru</a:t>
            </a:r>
            <a:r>
              <a:rPr b="0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 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55640" y="1600200"/>
            <a:ext cx="770400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7742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99"/>
                </a:solidFill>
                <a:latin typeface="Tahoma"/>
              </a:rPr>
              <a:t>РЕГИСТРАЦИЯ НА САЙТЕ</a:t>
            </a:r>
            <a:r>
              <a:rPr b="1" i="1" lang="en-US" sz="3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rosrid.ru</a:t>
            </a:r>
            <a:r>
              <a:rPr b="0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 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4000" y="1600200"/>
            <a:ext cx="834516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920" y="330120"/>
            <a:ext cx="812664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ahoma"/>
              </a:rPr>
              <a:t>БЛАНК ЗАЯВЛЕНИЯ </a:t>
            </a:r>
            <a:br>
              <a:rPr sz="2800"/>
            </a:br>
            <a:r>
              <a:rPr b="1" i="1" lang="en-US" sz="2800" spc="-1" strike="noStrike">
                <a:solidFill>
                  <a:srgbClr val="333399"/>
                </a:solidFill>
                <a:latin typeface="Tahoma"/>
              </a:rPr>
              <a:t>ДЛЯ ОТКРЫТИЯ ЛИЧНОГО КАБИНЕТА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692440" y="1557360"/>
            <a:ext cx="42148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822456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СОЗДАНИЕ РЕГИСТРАЦИОННОЙ КАРТЫ</a:t>
            </a:r>
            <a:br>
              <a:rPr sz="2800"/>
            </a:b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www.rosrid.ru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24000" y="1601640"/>
            <a:ext cx="849600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9T07:29:59Z</dcterms:created>
  <dc:creator>Пользователь</dc:creator>
  <dc:description/>
  <dc:language>en-US</dc:language>
  <cp:lastModifiedBy>Пользователь</cp:lastModifiedBy>
  <dcterms:modified xsi:type="dcterms:W3CDTF">2014-11-05T08:14:33Z</dcterms:modified>
  <cp:revision>10</cp:revision>
  <dc:subject/>
  <dc:title>ПОРЯДОК РЕГИСТРАЦИИ научно-исследовательских и опытно-конструкторских работ (НИОКР)</dc:title>
</cp:coreProperties>
</file>