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Times New Roman"/>
              </a:rPr>
              <a:t>Click to move the slide</a:t>
            </a: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0192-64C3-4648-97CF-14FDE4F206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70E9-83D5-4428-88C8-6E1234182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A45-42F3-43C8-A388-9A5EB0E6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E5A-C0C6-4B13-A5EF-A820623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B49-4897-4CA9-92B9-C9F7AD04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060-A77A-49FF-94FC-868914A7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95B-E4CF-42AB-8641-0AA0E84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7793-C40E-4EB4-80E3-A6F3509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C743-BA9B-4BCD-80CE-B8EB1AC2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749C-6C81-4E2F-B43A-8395D4F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B73-FEE1-4D17-AA99-63B5CEF4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394-0811-4036-8FCC-4D5257C2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2C4E-7B66-415D-8066-9AE3EC0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FAC-DBCA-4B3A-B513-930F5749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256-0A5A-4EF3-921C-BB50376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90E8-6B29-4EAF-9B69-319A9EA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3179-111B-4E90-BA98-F546156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C5C-A8DF-4CA2-83C1-73162B20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1786-F515-4A15-92C7-122258D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32F8-2BDC-49EA-A2BB-BF50F2EC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C547-98DF-496E-8744-49F17AA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1738-1AC0-404C-946A-D38A0D6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174C-F14B-441A-8D0A-55D8B0F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CC6D-9AF8-4C52-8FC5-303481F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331-80F0-4D45-A716-42103E8B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1098-9150-4A03-8424-F759759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0AC1-D852-4E59-AE8D-DD348A3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C8E3-AB6E-49CE-B846-3E69AB8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36B4A-E2F4-417D-B63F-BFED991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9E2F-9AB7-4A2D-83F2-B0E3CDB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049E-DF75-44E6-9E46-233A63F0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B12C-56FF-4CE4-9A8C-D24C5C20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7A61-1911-4794-803E-9B290BE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B72E-DAEC-4FB3-9C50-B209BE06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E435-3338-4ED1-A97D-861C81E9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C9C-632C-4599-ABC6-0D731294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7946-E6E4-414E-8D1A-D785C42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84CA-CCF2-447C-8E86-4FAB3B74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FC96-8A54-4682-B736-9990CE7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430A-3818-4EF8-9C7B-8653E26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37F7-8BC5-4393-8100-8B6B57F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8511-6D09-4BF6-BF2D-A10CD63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5FD9-6C41-4B6F-AD56-C5EDEBD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D652-B593-4345-9038-8B32CE46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5ABC-215B-4CB6-806E-49DAB7E8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317D-3968-471E-B22C-A3153CED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CAE-A235-42CE-BA0E-FC3FD72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979E-A065-4793-B524-90089EC5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0D8B-8BDC-4C1D-95CF-D0055078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B613-D880-4B8E-B935-7887E0F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83A3-1591-469B-9B7A-FEF486BA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2AD8-0732-4973-AD0E-CCC2C35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E029-23C9-4060-AA6C-29AE392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FAEB-6243-49D6-A33C-43F5C03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326E-E19E-46F0-8B54-1C2CB8F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51618-D232-48EA-92E0-D4A9A14B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B07B-F014-4AD2-AE51-F1FD9B5D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285-4095-41CA-B54B-E40DF1D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7BAA0-84AC-43D6-A2B1-AFEB2646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2BC6-9932-49AC-BAE2-C0E37391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51C6-D857-423C-AD22-1D4E7811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1355-2CF6-4A20-B0CA-D9DDD695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CF6C-E81D-4292-B979-D97FCA92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CA72-ECC9-4AE7-B648-69C39CE6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8648-289E-4437-A93E-09F1377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427E-E7E8-417C-B29D-2BB39BF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6BD9-17DD-4DE5-9F92-021261C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295C-FC17-4B81-A79A-D15FC79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26D-C6FE-4696-8A94-3626403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CD23-9B93-4A86-8517-EA046FE5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E611-FBC8-400C-9878-A920266F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5C1F-1619-42DC-AE14-1A83CEC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36CC-9241-4BA3-AF65-F231AA82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E4AC-BC76-4439-A8AB-FB21A820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310B6-D761-450F-B0CE-E19F41B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2D9A-0869-476A-86E9-63C7B8C2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95BF5-ED42-4841-8986-AE87052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D964-39E3-4B8E-9F01-41265C04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AA8B-8B4E-4291-A7BB-8663B2D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373-04F9-4B1F-A62A-C9461F5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CD9E-07F2-40AA-8C4C-4E5D35BC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ACB7-1B82-42FA-8697-4DF6F34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29033-6280-4E2A-82C9-7F15101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5CA1-36D0-4B62-BAAA-00EB7EC1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19A9-B6C5-450D-AD23-D5E5CE89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9D522-70A3-42DE-BCBC-4584E2DA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2B1D-0C0C-4D55-B6E6-0D65BCC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B905-91A7-49C5-A392-E6EFB11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E7795-81B0-492C-AA44-C96FF0C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C1031-2B98-4B45-8712-F9F26CC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22E-18A9-47E3-8D98-0B01E9E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A1D9E-B489-4242-A37E-8483CFB6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505C-CCAE-4B47-829F-512F1F3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1253-56DC-4770-9A72-400528D3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69AE-AB49-4DFD-85B6-3BA4318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AD00-6A85-4CA1-A106-76B9BA0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C91F0-0637-4167-AE6C-9B6D413D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F6399-3507-444A-8DCD-65E368E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C853-A5FD-46B1-A294-71021B0EA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AA0-AFAA-4AB2-849F-5CA1258E96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55A-AA63-4EBC-B9C7-A7358810C1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AA1-ECB8-4BAE-9802-E524DA2A93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F35-03FF-4D0B-B99F-9DBAC0A1D4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228-C393-4861-98E0-2AF1FE3183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BBDD-724D-4496-B178-6C6FD5E8CC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Times New Roman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B0E7-9189-41CA-B680-E7BE6324CA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92160" y="-92160"/>
            <a:ext cx="8966160" cy="4608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556000" y="5300640"/>
            <a:ext cx="64008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РФ от 28 марта 2014 г. N 247 «Об утверждении порядка прикрепления лиц для сдачи кандидатских экзаменов, сдачи кандидатских экзаменов и их перечня»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крепление для сдачи кандидатских экзаменов проводится по имеющим государственную аккредитацию программам подготовки научно-педагогических кадров в аспирантуре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крепление с 1 ноября и  1 марта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195120" y="73080"/>
            <a:ext cx="84981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50720" y="328680"/>
            <a:ext cx="82425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ия подготовки в аспирантуре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4.06.01 Химические нау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6.06.01 Биологические нау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6.01 Фундаментальная медиц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6.01 Клиническая медиц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2.06.01 Медико-профилактическое де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.06.01 Социологические нау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.06.01 Языкознание и литературовед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2160" y="255600"/>
            <a:ext cx="8880480" cy="1378080"/>
          </a:xfrm>
          <a:prstGeom prst="rect">
            <a:avLst/>
          </a:prstGeom>
          <a:ln w="0">
            <a:noFill/>
          </a:ln>
        </p:spPr>
      </p:pic>
      <p:sp>
        <p:nvSpPr>
          <p:cNvPr id="382" name="Скругленный прямоугольник 4"/>
          <p:cNvSpPr/>
          <p:nvPr/>
        </p:nvSpPr>
        <p:spPr>
          <a:xfrm>
            <a:off x="1989000" y="1852560"/>
            <a:ext cx="1727280" cy="403236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4032360"/>
              <a:gd name="textAreaBottom" fmla="*/ 3948120 h 4032360"/>
            </a:gdLst>
            <a:ahLst/>
            <a:rect l="textAreaLeft" t="textAreaTop" r="textAreaRight" b="textAreaBottom"/>
            <a:pathLst>
              <a:path w="21600" h="50420">
                <a:moveTo>
                  <a:pt x="3600" y="0"/>
                </a:moveTo>
                <a:arcTo wR="3600" hR="3600" stAng="16200000" swAng="-5400000"/>
                <a:lnTo>
                  <a:pt x="0" y="46820"/>
                </a:lnTo>
                <a:arcTo wR="3600" hR="3600" stAng="10800000" swAng="-5400000"/>
                <a:lnTo>
                  <a:pt x="18000" y="50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5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по направлению подгот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47"/>
          <p:cNvSpPr/>
          <p:nvPr/>
        </p:nvSpPr>
        <p:spPr>
          <a:xfrm>
            <a:off x="3813120" y="1852560"/>
            <a:ext cx="1766880" cy="4032360"/>
          </a:xfrm>
          <a:custGeom>
            <a:avLst/>
            <a:gdLst>
              <a:gd name="textAreaLeft" fmla="*/ 86040 w 1766880"/>
              <a:gd name="textAreaRight" fmla="*/ 1680840 w 1766880"/>
              <a:gd name="textAreaTop" fmla="*/ 86040 h 4032360"/>
              <a:gd name="textAreaBottom" fmla="*/ 3946320 h 4032360"/>
            </a:gdLst>
            <a:ahLst/>
            <a:rect l="textAreaLeft" t="textAreaTop" r="textAreaRight" b="textAreaBottom"/>
            <a:pathLst>
              <a:path w="21600" h="49290">
                <a:moveTo>
                  <a:pt x="3600" y="0"/>
                </a:moveTo>
                <a:arcTo wR="3600" hR="3600" stAng="16200000" swAng="-5400000"/>
                <a:lnTo>
                  <a:pt x="0" y="45690"/>
                </a:lnTo>
                <a:arcTo wR="3600" hR="3600" stAng="10800000" swAng="-5400000"/>
                <a:lnTo>
                  <a:pt x="18000" y="49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рганизации  и осуществления образова-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5651640" y="1852560"/>
            <a:ext cx="1655640" cy="4032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4032360"/>
              <a:gd name="textAreaBottom" fmla="*/ 3951720 h 4032360"/>
            </a:gdLst>
            <a:ahLst/>
            <a:rect l="textAreaLeft" t="textAreaTop" r="textAreaRight" b="textAreaBottom"/>
            <a:pathLst>
              <a:path w="21600" h="52601">
                <a:moveTo>
                  <a:pt x="3600" y="0"/>
                </a:moveTo>
                <a:arcTo wR="3600" hR="3600" stAng="16200000" swAng="-5400000"/>
                <a:lnTo>
                  <a:pt x="0" y="49001"/>
                </a:lnTo>
                <a:arcTo wR="3600" hR="3600" stAng="10800000" swAng="-5400000"/>
                <a:lnTo>
                  <a:pt x="18000" y="52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5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иема на обу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49"/>
          <p:cNvSpPr/>
          <p:nvPr/>
        </p:nvSpPr>
        <p:spPr>
          <a:xfrm>
            <a:off x="7380360" y="1844640"/>
            <a:ext cx="1763640" cy="4032360"/>
          </a:xfrm>
          <a:custGeom>
            <a:avLst/>
            <a:gdLst>
              <a:gd name="textAreaLeft" fmla="*/ 86040 w 1763640"/>
              <a:gd name="textAreaRight" fmla="*/ 1677600 w 1763640"/>
              <a:gd name="textAreaTop" fmla="*/ 86040 h 4032360"/>
              <a:gd name="textAreaBottom" fmla="*/ 3946320 h 4032360"/>
            </a:gdLst>
            <a:ahLst/>
            <a:rect l="textAreaLeft" t="textAreaTop" r="textAreaRight" b="textAreaBottom"/>
            <a:pathLst>
              <a:path w="21600" h="49380">
                <a:moveTo>
                  <a:pt x="3600" y="0"/>
                </a:moveTo>
                <a:arcTo wR="3600" hR="3600" stAng="16200000" swAng="-5400000"/>
                <a:lnTo>
                  <a:pt x="0" y="45780"/>
                </a:lnTo>
                <a:arcTo wR="3600" hR="3600" stAng="10800000" swAng="-5400000"/>
                <a:lnTo>
                  <a:pt x="18000" y="49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508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 государствен-ной итоговой аттес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11"/>
          <p:cNvSpPr/>
          <p:nvPr/>
        </p:nvSpPr>
        <p:spPr>
          <a:xfrm>
            <a:off x="179280" y="1844640"/>
            <a:ext cx="1727280" cy="403236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4032360"/>
              <a:gd name="textAreaBottom" fmla="*/ 3948120 h 4032360"/>
            </a:gdLst>
            <a:ahLst/>
            <a:rect l="textAreaLeft" t="textAreaTop" r="textAreaRight" b="textAreaBottom"/>
            <a:pathLst>
              <a:path w="21600" h="50420">
                <a:moveTo>
                  <a:pt x="3600" y="0"/>
                </a:moveTo>
                <a:arcTo wR="3600" hR="3600" stAng="16200000" swAng="-5400000"/>
                <a:lnTo>
                  <a:pt x="0" y="46820"/>
                </a:lnTo>
                <a:arcTo wR="3600" hR="3600" stAng="10800000" swAng="-5400000"/>
                <a:lnTo>
                  <a:pt x="18000" y="50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5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й перечень направлени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0680"/>
            <a:ext cx="822960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обретение необходимого для осуществления профессиональной деятельности уровня знаний, умений, навык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обретение опыта профессиональной деятельности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готовка к защите научно-квалификационной работы (диссертации) на соискание ученой степени кандидата нау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013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76280" y="-6480"/>
            <a:ext cx="8217000" cy="695520"/>
          </a:xfrm>
          <a:prstGeom prst="rect">
            <a:avLst/>
          </a:prstGeom>
          <a:ln w="0">
            <a:noFill/>
          </a:ln>
        </p:spPr>
      </p:pic>
      <p:pic>
        <p:nvPicPr>
          <p:cNvPr id="390" name="Таблица 4" descr=""/>
          <p:cNvPicPr/>
          <p:nvPr/>
        </p:nvPicPr>
        <p:blipFill>
          <a:blip r:embed="rId2"/>
          <a:stretch/>
        </p:blipFill>
        <p:spPr>
          <a:xfrm>
            <a:off x="103320" y="907920"/>
            <a:ext cx="87915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50920" y="14810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овая часть является обязательной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 зависимости от направленности программы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ключ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циплины (модули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68000"/>
              <a:buFont typeface="Times New Roman"/>
              <a:buChar char="-"/>
              <a:tabLst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странный язы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68000"/>
              <a:buFont typeface="Times New Roman"/>
              <a:buChar char="-"/>
              <a:tabLst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и философия нау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вую  (государственную итоговую) аттестацию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84720" y="148104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тивная часть является обязательной и формируется в соответствии с направленностью программы и включ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циплины (модули), установленные организацией, в т.ч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ные на подготовку к сдаче кандидатского экзамен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и, установленные организа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algn="just">
              <a:tabLst>
                <a:tab algn="l" pos="0"/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о-исследовательскую работу в объёме, установленном организа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54288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Заголовок 3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55640" y="1412640"/>
            <a:ext cx="74088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ый учебный график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 дисциплин (модулей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рактик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ые средства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материалы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компоненты, включенные в состав программы аспирантуры (адъюнктуры)  по решению организа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РФ от 28 марта 2014 г. N 248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"О Порядке и сроке прикрепления лиц для подготовки диссертации на соискание ученой степени кандидата наук без освоения программ подготовки научно-педагогических кадров в аспирантуре (адъюнктуре)“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крепление с 1 ноября и  1 марта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4 апреля 2014 года  № 267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«Об утверждении Положения о докторантуре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ctr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иссертация может быть подготовлена в принимающей организации при наличии совета по защите диссертации по выбранной научной специальност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3:50:12Z</dcterms:created>
  <dc:creator>Mark Agranovich</dc:creator>
  <dc:description/>
  <dc:language>en-US</dc:language>
  <cp:lastModifiedBy>Pelkina</cp:lastModifiedBy>
  <cp:lastPrinted>2014-09-22T09:56:02Z</cp:lastPrinted>
  <dcterms:modified xsi:type="dcterms:W3CDTF">2014-11-06T08:59:37Z</dcterms:modified>
  <cp:revision>168</cp:revision>
  <dc:subject/>
  <dc:title>Результаты расчетов</dc:title>
</cp:coreProperties>
</file>